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219-39A0-4A8C-B103-7E611FE8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17E-76A3-4150-A119-719CA58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BE1-F232-4BA9-AC73-C4F77DFE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D35-AC09-4F8E-A89E-B488D13A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102-0A84-43B7-8284-DCC4308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BE1-6B1D-42BE-90AE-2C555791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9FC-BB41-4CE4-8C05-96CE873F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381-03B2-4669-AA14-DC0FF9CD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139-797A-4976-80BC-CC16C46D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432-E510-4CF8-992D-C0992C0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FF5-8882-4579-A5A5-6E0B100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C6A-05F7-42FE-9EC9-18EDB0E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FF9-FEDE-409C-9E92-4D2947E5F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Resolutsioon predikaatarvut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al juhul töötab meetod valemitega, mis on universaalsel konjuktiivsel normaalkujul, s.t. kujul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iteraalide disjunktsioonide konjuktsioon. Sellise kuju saavutamiseks tuleb valem viia prenekskujule ja siis skolemiseerid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aluseks on jällegi kaks reegli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reegel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’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eeldame, et eeldusklauslid ei oma ühiseid muutuj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98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388620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aktoriseerimisreegl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gu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’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4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4190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 püüab etteantud klauslitest tuletada tühja klauslit ehk siis saada vastuolu. Kui sellist tuletust ei leidu, siis peaks etteantud klauslite hulk olema kehtestata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uslite hulk on kehtestatav parajasti siis, kui temast ei saa tuletada tüh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tasemete küllastamine”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</a:t>
            </a:r>
            <a:r>
              <a:rPr b="0" lang="et-EE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õigi resolventide hu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 ning pöördu tagasi sammu 2 juu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ge, et nii see algoritm kui iga teine õiglane resolutsioonialgoritm (s.t. algoritm, mis ei ignoreeri lõpmatult kaua ühtki paari tekitatud klausleid) säilitab resolutsiooniarvutuse korrekt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eks aga, et saavutada mõistlikku efektiivsust, tuleb baasalgoritmi optimisee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t saab rakendada ka lahenduste otsimise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 otsime vastust küsimus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 selline t, et teoreem kehtiks t jaoks”. Siis tuleb meetodit veidi modifitseerida: lasta tööl peatuda, kui on tuletatud kas tühi klausel või ainult lahendusliteraale sisaldav klaus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masel juhul on tuletatud lahendusliteraali argument otsitavaks lahenduseks. Kui küsimusel pole ühest vastust, siis tuletab meetod klausli, mis sisaldab mitut erinevat mitteunifitseeritavat lahenduslitera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0:18:16Z</dcterms:created>
  <dc:creator>Tiina Zingel</dc:creator>
  <dc:description/>
  <dc:language>en-US</dc:language>
  <cp:lastModifiedBy>Tiina Zingel</cp:lastModifiedBy>
  <dcterms:modified xsi:type="dcterms:W3CDTF">2006-04-24T10:28:53Z</dcterms:modified>
  <cp:revision>2</cp:revision>
  <dc:subject/>
  <dc:title>8. Resolutsioon predikaatarvutses.</dc:title>
</cp:coreProperties>
</file>